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C08-0017-47E3-924E-8CE12CB1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B9C-34F8-468F-BA39-4935138F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72A-4B18-497E-9D50-B716F3B8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D2B-75F7-4C7B-BAB0-980D6C1D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D77-4F66-4502-AFEA-C9403BD5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BE0-EC10-4DC2-8979-5B2E596F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C80-2672-460C-B01C-30E1193C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A7B-64D6-4E6D-A590-EA93AE81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0AA-6747-42E9-8086-AC8EF4C9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22F-2F8A-4970-8B45-C5DB633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5C8-D3B8-4F07-8C4B-E719315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DD0-2842-4DF3-A9DB-656469D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D05-AEA0-430C-943D-5B1687811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12:32Z</dcterms:created>
  <dc:creator>Grupo Editorial</dc:creator>
  <dc:description/>
  <dc:language>en-US</dc:language>
  <cp:lastModifiedBy>Grupo Editorial</cp:lastModifiedBy>
  <dcterms:modified xsi:type="dcterms:W3CDTF">2001-11-20T15:15:10Z</dcterms:modified>
  <cp:revision>1</cp:revision>
  <dc:subject/>
  <dc:title>Sin título de diapositiva</dc:title>
</cp:coreProperties>
</file>